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A43-9459-4F00-AE1E-558C558A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AE1-FE1F-428B-8F93-60E62629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3EA-91C8-41D0-AEAE-776C20D2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D39-5108-454C-96E1-C5304A10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38A3-E0FA-4864-B51B-42DA9FE1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ABC2-1AA8-4461-9842-D7AD30B4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9E9C-61F2-4FD6-A150-E5B4451D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AE00-32B5-4ACB-B138-F7891A99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41D5-2F1D-405E-8025-388E650E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245C-03C6-4402-8AC6-E07BD1AA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998D-ACF5-4EFB-98F9-969DAE91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06B-D910-48B0-A8F8-F73E469D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B7FE-D646-4C28-AB28-24A58036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B281-101D-44DF-A2FA-DD06F926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5A44-5AAA-4986-A164-49AE3F3A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4868-FE8F-48DC-AD82-758FB753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2D36-BFA9-4B36-AF91-B286F6EB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98B-3636-4C50-8C7B-DDCBF5D7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665-90CE-4801-BEB7-6392D86C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E4B-2CA0-48B9-BA8F-50E85221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6F6-6ADE-4F4F-A913-655AF49A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64A-5292-4D0F-81AB-980B8C0B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06E-E694-4436-9F43-EB1EC6F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665-C1B5-47B9-87E6-C2C04CE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3394-EA86-460C-B31A-84D2A60ADE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E562-13D8-4316-9FA8-AA44AB2E73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AMP Technical Conference 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Mutual Aid 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April 28-29,2009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Community Responsi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ssessment ,Operations, Logistics Parallel Path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 the beginning of the recovery efforts the total assessment of the damages is critical to the success of recove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 the beginning of recovery their should as many employee’s working on the damage assessment as there are working on the restoration of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assessment of damages is  th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ke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o your community making the decisions on the mutual aid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munities need to forecast their manpower and equipment resources to the assessment and amount of damag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assessment helps you determine what kind of mutual aid crews you need and materials that you should request they b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king the necessary steps of your preplanning will help you on knowing how many customers you have without service and your decision on mutual aid request easier and more cle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n’t wait to long to make your decision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saster Recovery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perations- Mutual Aid Crew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ce decision has been made to call for mutual aid, know what you want in make up of crews and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aterials need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t Coordinator know if you need additional help other than line crews for setup and coordination or additional assess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t Coordinator and Amp know if your interconnection is out of service so that can be investigated / coordin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ws sizes and make up will be decided by what you want them to 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amount of crews you request should match the size of your event and the amount of available qualified personnel than can be coordinated safely (Bird Dog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gger Derrick crews, Bucket Trucks crews, material handlers, Service drop crews, etc., know what you want, if this is an extended stay this will change as the event moves alo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imate the length of stay so visiting crews know how to pack and plan. Longer events will require crew rot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saster Recovery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ecking the  Mutual Aid Crews i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 thei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ssifications and contact inform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cell phone numbers, any work rules that they may have different from y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them with a list of contact information from your organization and a qualified employee( bird dog 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them with a road map of your area, highlight the key emergency services and their phone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aster Reco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e with all crews on a preplanned basis of progress of event,keep your bird dogs in the know. Coordinate work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date crews on how long you estimate that they our going to be the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Mutual aid crews  know where their hotels and restaurants are located and how the logistics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e back to your coordinators, so that they can help you with any additional resources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saster Recovery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ogistic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rack of work locations and restoration times and materials used  this  will aid you in your after storm assessments and OMEA/FEMA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a plan for mutual aid and mutual crews ahead of time can save days of outage time and permit those crews to work at other mutual aid request communities if nee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ng through out the event to all departments, mutual aid crews and public will assist through out the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tual Aid / What 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 Planning provides for your strategy to work be prepared to improvise your plan as conditions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rough and timely assessment of da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lear chain of command throughout the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fied employees assisting the mutual aid cr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ing up your own qualified crews to be bird dogs, 5 employees can become 5 crews or more, consider options in this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tual Aid / What 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hotels and restaurants ready for visiting and host cr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ing a good storm stock of inventory/ high use inventory should be no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back with the visiting crews Superintendent / Comm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ing prepared to rotate mutual aid crews and  the make up of crews as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mutual aid crews bring equipment and materials to match your nee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tual Aid / What 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ling the event with planning,communications,logistics and a even ke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 your workdays, generally 16 hr shifts and 8 rest hours periods, shift ro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your host crews do the night work, good time to set poles for the next day and setup materials  for other parts of the rest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a employee that is a runner for what ever is needed for stock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tual Aid / What 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rdinating Tree Crew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ing visiting mutual aid crews they way you expect your crews to be tre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ing the public be able talk to someone on the phone from the start to the finish of the ev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ed office, customer service folks to gather good information that can readily be accessed by those who need to see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mp Mutual Aid  Sector Coordinator Lis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- Bill Lambert, Wapakon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ue-Greg Orians,Car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-Kenny McKenzie, Westervi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ack - Ed Eschenbrenner,Hamil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le/Brown Jim Haeslar,Schullykillha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 –Gene Post ,Wadswor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p Member Directory has mutual aid information and phone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st Responsibil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ation for a Mutual Aid event will save communities restoration time and resources and provides risk re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ual aid is scalable for your commun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mutual aid preparation part of your disaster plan &amp; update every six month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 as many of your fellow co workers and departments as you can, they all will be need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ost Responsibilities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o do list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sure your mutual aid AMP agreement have been sig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  FEMA agre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MA agreement can be viewed and downloaded @ the APPA web site appanet.org , which includes a state by state li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 who your Sector Coordinator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pare before the mutual aid ev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 relationships and protocols with local Service Organizations, Fire,EMS, Safety Forces, Red Cross, Salvation Army etc.. Communicate with these folks before, during and after an ev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 relationships and protocols with Hotels,Restaurants,Fueling Stations inside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your service territ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ate  chain of command leadership roles with  interchangeable personnel contin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 ahead of time is a critical part of risk reduction and safety for you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pare before the mutual aid ev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multiple qualified employee’s who can asses the damage and make 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back up generation plan from partial to full requirements for your own customer service loa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 Warehouse,Customer Service Centers, City Hall, Fire and Safety Services, Communications To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pare before the mutual aid ev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 ahead of the event will allow you think out your work plan before you are over stre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ir our long term benefits for preparing ahead of time and planning ahead provides for people to be productive from start to the finish of the ev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ngle plan fits all utilities, use your experience and ask for help from those who have gone through disaster restorations for assistanc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aster Recovery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etermine your Circuits restoration priority based on characteristics of Circu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ors to consi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Hospitals, Emergency Care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Community Critical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Safety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Water/Waste Water Services/Lift S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mmunications Services/Cell Tow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chools/Business Districts/Industri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saster Recovery Circuit Ranking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447920"/>
          <a:ext cx="8229600" cy="4854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i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o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Inf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l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, Lif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Roc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Tow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Pla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W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sted Care,ww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aster Recovery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Circuit Ma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Land base M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Contact Numbers for all employees and emergency contacts outside of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 plan key disconnect locations for partial restoration of damaged circu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Substation loading characteristics and capacity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aster Recovery Pla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 proactive in the assess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how/who in your community is going to Assess the damag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qualified employees for the best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ord information accurately, preferably in a manageable data base that can be recalled and viewed by many. This information will needed when you fill out your OEMA or FEMA fo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 Plan how you will record call information from customers and those who our assessing damag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/ Train for assistance in the call centers, Point of Conta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de training for those who be answering phone calls that our assisting, script questions for those who are not electrically train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ood information will come from the public when they our asked good observation questions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5:16:22Z</dcterms:created>
  <dc:creator>City User</dc:creator>
  <dc:description/>
  <dc:language>en-US</dc:language>
  <cp:lastModifiedBy>City User</cp:lastModifiedBy>
  <dcterms:modified xsi:type="dcterms:W3CDTF">2009-04-22T21:03:15Z</dcterms:modified>
  <cp:revision>15</cp:revision>
  <dc:subject/>
  <dc:title>Amp-Ohio Technical Conference April 23,2009</dc:title>
</cp:coreProperties>
</file>