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02E-AD55-440D-B74E-DE7F5C24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D1C-9FFA-40BB-93D9-F9769C5B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808-EC4F-40AB-BBFE-D4AC9027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ED4-B00A-4916-B4B7-FB706A27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9F5A-2705-4CCA-83BD-2FB3A404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5901-F700-44A6-A120-BEDB50A7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1B63-2544-4402-9C85-BCDADDD8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97FA-EC96-45BF-BE57-97F1DC3E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1CF7-343A-4679-92FC-DA7EF38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43EB-645A-4057-B98B-8156BF3F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BAB2-EAF5-4ECF-991A-0C828565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2E6-71DE-40B9-AD25-26483EAB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3A68-2C59-478C-A9FD-E52EE8E9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5261-9A70-4CC6-A161-9B9B546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E13A-328B-48E8-97B3-A64AA551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1A16-B613-435D-8CB3-84B5E5A9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68BE-B0D4-414D-8403-B03C4F96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F1A-9F18-4958-8C5C-CEFAAD0A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8A1-9341-4719-8170-DA938BBE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7CF-BE5A-464D-A25D-1EA8037D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B9D-A8B5-4223-85C2-23B954A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25D-57AB-4B3C-9239-26ACC4B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EFE-6ADD-4E67-8AF2-5151596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41A-C16D-47FE-90A5-864398F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BA1-9F30-414C-90B2-E532C80E6D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4869-7A9D-4CE8-B327-8AB2330429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AMP Technical Conference 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Mutual Aid 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April 28-29,2009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Community Responsi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ssessment ,Operations, Logistics Parallel Path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 the beginning of the recovery efforts the total assessment of the damages is critical to the success of recove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 the beginning of recovery their should as many employee’s working on the damage assessment as there are working on the restoration of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ssessment of damages is  th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ke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o your community making the decisions on the mutual ai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unities need to forecast their manpower and equipment resources to the assessment and amount of damag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ssessment helps you determine what kind of mutual aid crews you need and materials that you should request they b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king the necessary steps of your preplanning will help you on knowing how many customers you have without service and your decision on mutual aid request easier and more cle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n’t wait to long to make your decision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aster Recovery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erations- Mutual Aid Crew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ce decision has been made to call for mutual aid, know what you want in make up of crews and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aterials need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t Coordinator know if you need additional help other than line crews for setup and coordination or additional assess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t Coordinator and Amp know if your interconnection is out of service so that can be investigated / coordin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ws sizes and make up will be decided by what you want them to 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mount of crews you request should match the size of your event and the amount of available qualified personnel than can be coordinated safely (Bird Dog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gger Derrick crews, Bucket Trucks crews, material handlers, Service drop crews, etc., know what you want, if this is an extended stay this will change as the event moves alo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imate the length of stay so visiting crews know how to pack and plan. Longer events will require crew rot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aster Recovery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hecking the  Mutual Aid Crews i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 thei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ifications and contact inform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ell phone numbers, any work rules that they may have different from y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hem with a list of contact information from your organization and a qualified employee( bird dog 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hem with a road map of your area, highlight the key emergency services and their phone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aster 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 with all crews on a preplanned basis of progress of event,keep your bird dogs in the know. Coordinate work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 crews on how long you estimate that they our going to be the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Mutual aid crews  know where their hotels and restaurants are located and how the logistics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 back to your coordinators, so that they can help you with any additional resources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aster Recovery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Logistic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rack of work locations and restoration times and materials used  this  will aid you in your after storm assessments and OMEA/FEMA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a plan for mutual aid and mutual crews ahead of time can save days of outage time and permit those crews to work at other mutual aid request communities if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ng through out the event to all departments, mutual aid crews and public will assist through out th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tual Aid / Wha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 Planning provides for your strategy to work be prepared to improvise your plan as conditions ch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rough and timely assessment of da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lear chain of command throughout th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lified employees assisting the mutual aid cr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up your own qualified crews to be bird dogs, 5 employees can become 5 crews or more, consider options in this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tual Aid / Wha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hotels and restaurants ready for visiting and host cr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ing a good storm stock of inventory/ high use inventory should be no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back with the visiting crews Superintendent / Commun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ing prepared to rotate mutual aid crews and  the make up of crews as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mutual aid crews bring equipment and materials to match your 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tual Aid / Wha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ling the event with planning,communications,logistics and a even ke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your workdays, generally 16 hr shifts and 8 rest hours periods, shift r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your host crews do the night work, good time to set poles for the next day and setup materials  for other parts of the rest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a employee that is a runner for what ever is needed for stock etc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tual Aid / What 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ordinating Tree Crew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ing visiting mutual aid crews they way you expect your crews to be tre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ing the public be able talk to someone on the phone from the start to the finish of the ev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ed office, customer service folks to gather good information that can readily be accessed by those who need to see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mp Mutual Aid  Sector Coordinator Lis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- Bill Lambert, Wapakone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ue-Greg Orians,Car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-Kenny McKenzie, Westervi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ack - Ed Eschenbrenner,Hamil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ple/Brown Jim Haeslar,Schullykill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 –Gene Post ,Wadswor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p Member Directory has mutual aid information and phone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st Responsibil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ation for a Mutual Aid event will save communities restoration time and resources and provides risk re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ual aid is scalable for your commun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mutual aid preparation part of your disaster plan &amp; update every six month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age as many of your fellow co workers and departments as you can, they all will be need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ost Responsibilities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o do list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sure your mutual aid AMP agreement have been sig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  FEMA agre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MA agreement can be viewed and downloaded @ the APPA web site appanet.org , which includes a state by state li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 who your Sector Coordinator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pare before the mutual aid ev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 relationships and protocols with local Service Organizations, Fire,EMS, Safety Forces, Red Cross, Salvation Army etc.. Communicate with these folks before, during and after an ev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 relationships and protocols with Hotels,Restaurants,Fueling Stations inside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your service territ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ate  chain of command leadership roles with  interchangeable personnel contin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ahead of time is a critical part of risk reduction and safety for you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pare before the mutual aid ev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multiple qualified employee’s who can asses the damage and make 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ablish back up generation plan from partial to full requirements for your own customer service loa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 Warehouse,Customer Service Centers, City Hall, Fire and Safety Services, Communications To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pare before the mutual aid ev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 ahead of the event will allow you think out your work plan before you are over stres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ir our long term benefits for preparing ahead of time and planning ahead provides for people to be productive from start to the finish of the ev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ngle plan fits all utilities, use your experience and ask for help from those who have gone through disaster restorations for assistanc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aster Recovery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etermine your Circuits restoration priority based on characteristics of Circu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s to consi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Hospitals, Emergency Care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Community Critical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Safety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Water/Waste Water Services/Lift S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mmunications Services/Cell Tow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chools/Business Districts/Industrial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saster Recovery Circuit Ranking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447920"/>
          <a:ext cx="8229600" cy="4854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o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Inf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l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, Lif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Roc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Tow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a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Pl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W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isted Care,wwt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aster Recovery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Circuit Ma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Land base 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Contact Numbers for all employees and emergency contacts outside of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 plan key disconnect locations for partial restoration of damaged circu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dated Substation loading characteristics and capacity 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aster Recovery Plan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e proactive in the assess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how/who in your community is going to Assess the damag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 qualified employees for the best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ord information accurately, preferably in a manageable data base that can be recalled and viewed by many. This information will needed when you fill out your OEMA or FEMA fo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 Plan how you will record call information from customers and those who our assessing damag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/ Train for assistance in the call centers, Point of Contac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 training for those who be answering phone calls that our assisting, script questions for those who are not electrically train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ood information will come from the public when they our asked good observation questions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5:16:22Z</dcterms:created>
  <dc:creator>City User</dc:creator>
  <dc:description/>
  <dc:language>en-US</dc:language>
  <cp:lastModifiedBy>City User</cp:lastModifiedBy>
  <dcterms:modified xsi:type="dcterms:W3CDTF">2009-04-22T21:03:15Z</dcterms:modified>
  <cp:revision>15</cp:revision>
  <dc:subject/>
  <dc:title>Amp-Ohio Technical Conference April 23,2009</dc:title>
</cp:coreProperties>
</file>